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DF8F-5D2C-4800-9674-A843660CC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6956-D9F7-4585-BFD2-F753C7897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D8BB-737B-4698-8F46-2A5339A78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E57F-51A7-468C-AD04-0E41AA851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0E4D8-6F3A-4DC0-A28A-E097B96FB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BB91A-A949-4D4C-92F5-E52CD2899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E4B4D-BE0B-41AE-A964-549C4FA9F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B6B83-4879-449D-A6BF-D29F799D7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16D55-8142-44AA-9B8B-AFE18427A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0FDB5-7941-40E0-9B08-1E815DF15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47C02-C562-4905-AE2D-6ED0A5EB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AC7E-3554-4E0F-8D98-BC0005D34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1C170-D692-4865-B8F6-1ECB69BC1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3739B-DA7B-4BE0-8AFC-BE368576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9F469-FD5C-456D-9BA7-883E61196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7035C-4541-4B79-A321-5A6A562BF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B4E72-B889-4D53-9481-DDA996845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3A940-07CC-4DB0-AF6B-EC418D9A5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560F5-E7E3-45A6-8236-170D77F8B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D9BFD-E5C9-4C1D-A5CD-5918F3733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7F6A8-4988-4C84-95E2-39A22C4DE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AFEC4-E7B4-458C-821F-18168199A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2838-8C7C-409F-A396-D9A0F97A4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678DE-610B-4D83-ACDC-5E2B5B159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F3CBE-1536-4256-B1C3-8BBDDE4B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05CA1-0538-461D-BA3C-2699860A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05167-AEB0-49CF-BE6B-768CF790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456AE-06C5-4A51-826A-FE9A9C659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15F94-F3AE-42F1-812B-21173AD63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D7F42-2144-40AC-B8CA-CC1D4762A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CF4C-6EDA-45FD-9B93-25436F743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6420-39E2-410D-9657-7C3BDD3B5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CF35-B1C3-4603-8C7E-11B99CFFE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CE64-8ED7-49A1-8838-7D995EF4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937E-D85F-4A77-B1DD-BF0FE2B0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7231-5BDA-424E-9C4C-6498F586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25.xml"/><Relationship Id="rId32" Type="http://schemas.openxmlformats.org/officeDocument/2006/relationships/slideLayout" Target="../slideLayouts/slideLayout26.xml"/><Relationship Id="rId33" Type="http://schemas.openxmlformats.org/officeDocument/2006/relationships/slideLayout" Target="../slideLayouts/slideLayout27.xml"/><Relationship Id="rId34" Type="http://schemas.openxmlformats.org/officeDocument/2006/relationships/slideLayout" Target="../slideLayouts/slideLayout28.xml"/><Relationship Id="rId35" Type="http://schemas.openxmlformats.org/officeDocument/2006/relationships/slideLayout" Target="../slideLayouts/slideLayout29.xml"/><Relationship Id="rId36" Type="http://schemas.openxmlformats.org/officeDocument/2006/relationships/slideLayout" Target="../slideLayouts/slideLayout30.xml"/><Relationship Id="rId37" Type="http://schemas.openxmlformats.org/officeDocument/2006/relationships/slideLayout" Target="../slideLayouts/slideLayout31.xml"/><Relationship Id="rId38" Type="http://schemas.openxmlformats.org/officeDocument/2006/relationships/slideLayout" Target="../slideLayouts/slideLayout32.xml"/><Relationship Id="rId39" Type="http://schemas.openxmlformats.org/officeDocument/2006/relationships/slideLayout" Target="../slideLayouts/slideLayout33.xml"/><Relationship Id="rId40" Type="http://schemas.openxmlformats.org/officeDocument/2006/relationships/slideLayout" Target="../slideLayouts/slideLayout34.xml"/><Relationship Id="rId41" Type="http://schemas.openxmlformats.org/officeDocument/2006/relationships/slideLayout" Target="../slideLayouts/slideLayout35.xml"/><Relationship Id="rId42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22190-50DC-4CA6-A126-9AC0E83C54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42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46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47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48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49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1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5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6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85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16B99-F2C9-4061-8AAD-110741EC454B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38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42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43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44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45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7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5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7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8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61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62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3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4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5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6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7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8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9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0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1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2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3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4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5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6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7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8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9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0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81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64BD4-8450-452F-A39B-2A2DAE460E2D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1"/>
    <p:sldLayoutId id="2147483676" r:id="rId32"/>
    <p:sldLayoutId id="2147483677" r:id="rId33"/>
    <p:sldLayoutId id="2147483678" r:id="rId34"/>
    <p:sldLayoutId id="2147483679" r:id="rId35"/>
    <p:sldLayoutId id="2147483680" r:id="rId36"/>
    <p:sldLayoutId id="2147483681" r:id="rId37"/>
    <p:sldLayoutId id="2147483682" r:id="rId38"/>
    <p:sldLayoutId id="2147483683" r:id="rId39"/>
    <p:sldLayoutId id="2147483684" r:id="rId40"/>
    <p:sldLayoutId id="2147483685" r:id="rId41"/>
    <p:sldLayoutId id="2147483686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4072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Чайная для китайцев то же, что для европейцев ресторан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1413000"/>
            <a:ext cx="7740720" cy="5445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401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ервые китайские чайные в Москве открылись в конце 90-х годов. Концепция таких заведений </a:t>
            </a:r>
            <a:r>
              <a:rPr b="0" lang="en-US" sz="4800" spc="-1" strike="noStrike">
                <a:solidFill>
                  <a:srgbClr val="000000"/>
                </a:solidFill>
                <a:latin typeface="바탕"/>
                <a:ea typeface="바탕"/>
              </a:rPr>
              <a:t>: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«Чай как условие здорового образа жизни, как образец взаимодействия между культурами  Китая и России.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5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5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1763640" y="333360"/>
            <a:ext cx="590400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луб чайной культуры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луб чайной куль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-360" y="1628640"/>
            <a:ext cx="5724360" cy="522936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крыт с августа 1997 го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 выше 380 наименований ч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Шесть залов и комн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инимальная цена чашки чая 180 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входе     гостям предлагается оставить свою обувь, а заодно и все повседневные мысли. Чай можно пить расположившись на полу или сидя за сто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5724360" y="1557360"/>
            <a:ext cx="341964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77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" dur="77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" dur="77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" dur="77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77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77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" dur="77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" dur="77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77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" dur="77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0" dur="77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2" dur="77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77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77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айная «Багу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4932360" cy="5445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bf00"/>
              </a:gs>
              <a:gs pos="100000">
                <a:srgbClr val="000000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айная «Багуа» открыта с с сентября 2005 года. Это не только клуб  но и галерея искусств. В залах выставлена коллекция изысканных аксессуаров и предметов интерьера из Китая. Посетителям чайной кроме разнообразия сортов чая предлагаются три способа заваривания. Можно заказать чайную церимони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4859280" y="1413000"/>
            <a:ext cx="4284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8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Чай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140000" y="1412640"/>
            <a:ext cx="5003640" cy="5445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bf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В чайной под названием «Чай»,  открытой в декабре 2000 года, царят классические традиции. Попасть сюда можно только переобувшись. Девиз этого клуба : «Место, где останавливается время». В меню свыше ста сортов чая. Карта постоянного гостя дает право на посещения школ чайного мастерства и каллиграфии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42116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узей ч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284720" y="1412640"/>
            <a:ext cx="4859280" cy="5445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«Музей чая» открылся в ноябре 2005 года. Расположиться для чаепития в чайной комнате можно на полу вокруг одной из «пяти полян» или у чайного бара. В музее –выставки, посвященные истории чайного пути, чайной посуды  и  чайных церемоний. Гостям могут приготовить белый, желтый, бирюзовый, зеленый, красный и черный чаи. Цена чаепития от 100 до 3000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4284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8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3" dur="2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-437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оформлении заказа для верности можно посоветоваться с чайным мастером. Тогда гостю обязательно расскажут, что когда на улице холодно и промозгло, предпочтение надо отдать «пуэру». Что зеленый чай отлично тонизирует и при правильном заваривании не обжигает, по этому особенно хорош летом. Что чай, который у нас по старинке называют черным, у китайцев именуется красным – благодаря почти рубиновому оттенку ароматного настоя. В музее готовят чай и по старинному обычаю с использованием масла и муки. Стоит такой чай не дешево (1500 рубле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0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04:38:42Z</dcterms:created>
  <dc:creator>user</dc:creator>
  <dc:description/>
  <dc:language>en-US</dc:language>
  <cp:lastModifiedBy>Лариса Сергеевна</cp:lastModifiedBy>
  <dcterms:modified xsi:type="dcterms:W3CDTF">2006-12-13T19:50:51Z</dcterms:modified>
  <cp:revision>12</cp:revision>
  <dc:subject/>
  <dc:title>Слайд 1</dc:title>
</cp:coreProperties>
</file>